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787-C353-46A9-8401-C9622F56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0E5-1027-4561-8D7D-8AFBD05F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7B1F-223E-4D4E-A345-0CDF3396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2ED-0539-4A94-9EBD-51579C33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D0E-0234-49A7-80DA-9919FCBB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E16-9068-41D6-B9E6-DBEB40C7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BE3-8F68-4113-AA3C-C2E43319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6D1-3DA3-41DD-8A80-EB48D2FE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713-7E9D-4675-A611-016E232A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130D-A91D-4B5D-8D8E-1F48317D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012-02E3-4370-A8DB-5EA85672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1B9-8A47-4038-8A49-17E9A4CF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5202-A058-4CC6-B8E6-AA345AF91BD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rrative E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Main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xpress the principal and independent id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Dependent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xpress additional information about the main idea (when or where it happened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ubordinating conjunctio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ablish the time relationship btw the dependent time clause and the main cla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pendent time clause can come before or after the main clause. But we use a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com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n the time clause comes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main clau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ordinating conjunction—In 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65) combine each pair of sentences into one complex sentence. Use the subordinating conjunctions in parentheses to clarify time relationship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動作按鈕: 起點 3"/>
          <p:cNvSpPr/>
          <p:nvPr/>
        </p:nvSpPr>
        <p:spPr>
          <a:xfrm>
            <a:off x="8001000" y="607212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Describe Events in Correct Time Period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in a narrative essay, the tense used sticks to the past, including th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imple past ten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past continu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Past continu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was/were + V-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talk about activities that were in progress at a specific time in the pas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escribe background 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t time cla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7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t time clauses can be used to describe the relationship btw two or more ev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taneous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rupted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s in seque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71) Identify the time relationship btw two clauses in each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動作按鈕: 起點 3"/>
          <p:cNvSpPr/>
          <p:nvPr/>
        </p:nvSpPr>
        <p:spPr>
          <a:xfrm>
            <a:off x="8001000" y="607212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 work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vise assignment 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work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iscuss the writing mechanics of Essay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arrative essay is a piece of writing that recreates an experienc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hrough ti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Introdu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o engages the reader’s inter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ention-getting h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is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Bod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o give details about the main event/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ails in time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ails of descri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Conclu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o describe the outcom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 of the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event showed or tau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62) A Scary Secr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o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is state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s? Descrip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com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poi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Fo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arrange the events in time or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ing sequence in Narrative Ess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escribe the events in correct time peri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past time clauses in Narrative Ess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add details to ess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ing detail questions about an out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howing Sequence in Narrative Essay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6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ex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ors (time adver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ordinating conjunction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adver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Afterwa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eventual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final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a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ater 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sudden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…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connectors usually appear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at the beginning of a sentenc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ar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ollowed by a com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except for 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62) Circle the time adverb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ordinating conj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70c0"/>
                </a:solidFill>
                <a:latin typeface="Calibri"/>
              </a:rPr>
              <a:t>As soon a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70c0"/>
                </a:solidFill>
                <a:latin typeface="Calibri"/>
              </a:rPr>
              <a:t>befo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70c0"/>
                </a:solidFill>
                <a:latin typeface="Calibri"/>
              </a:rPr>
              <a:t>afte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70c0"/>
                </a:solidFill>
                <a:latin typeface="Calibri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etc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subordinating conjunction joins a 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subordinate claus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 a 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main claus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subordinate clause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s usually introduced by a subordinating element such as a subordinating conjunction or relative pronou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t does not express a complete thought, so it does not stand alone. It must always be attached to a main claus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that completes the meaning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y are sometimes called 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dependent clauses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because they "depend" on a main clause to give them meaning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ordinating conjunction—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00040" y="1785960"/>
          <a:ext cx="8229600" cy="3475080"/>
        </p:xfrm>
        <a:graphic>
          <a:graphicData uri="http://schemas.openxmlformats.org/drawingml/2006/table">
            <a:tbl>
              <a:tblPr/>
              <a:tblGrid>
                <a:gridCol w="2685960"/>
                <a:gridCol w="5543640"/>
              </a:tblGrid>
              <a:tr h="459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Tran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02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le                 immediately                 nev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                 later, earlier                alway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                soon                       whenev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ce                  then                          at lengt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while       sometimes       subs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meantime         during       afterwards now, until now            next              follow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ultaneously            so far            this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60" name="文字方塊 5"/>
          <p:cNvSpPr/>
          <p:nvPr/>
        </p:nvSpPr>
        <p:spPr>
          <a:xfrm>
            <a:off x="2286000" y="578628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wisc.edu/writing/Handbook/Transitions.html#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4:54:58Z</dcterms:created>
  <dc:creator>Windows 使用者</dc:creator>
  <dc:description/>
  <dc:language>en-US</dc:language>
  <cp:lastModifiedBy>Windows 使用者</cp:lastModifiedBy>
  <dcterms:modified xsi:type="dcterms:W3CDTF">2009-04-11T15:58:23Z</dcterms:modified>
  <cp:revision>24</cp:revision>
  <dc:subject/>
  <dc:title>投影片 1</dc:title>
</cp:coreProperties>
</file>